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1F1-FE5F-4A6E-A0F7-35BCADFA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53E-D6E4-4D1C-AA89-9F9F9A3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572-864E-4812-8CF4-D2E8C5B8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691-1A00-4470-8B3C-BE20A45D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D4A-737E-42CB-AF97-29A7EA81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7D6-F0CD-457D-8114-E482D4C1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1B8C-FEDD-414C-A5BD-381F58B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CCF3-03A9-40DF-BAF6-625165F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DA7A-6D85-46B0-9F40-BB81A08C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738-5A60-46BF-BEDB-B038D4F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519C-9C93-4E4C-8A2C-01A69C0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DE5-1849-46DD-B9AF-1302D95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E7B8-E65E-4018-9CC6-2456235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0F1-B2F4-4497-8E25-76296A5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2EC3-1FD9-4456-AFF8-B742559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93E8-8760-443C-B52A-8122FFDA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CE6-A991-4089-A0BB-E94504AC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76AD-D514-4ABE-BFC2-BAFAEA29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C159-F90E-4E7B-AB96-D0F20BC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6BB4-1786-4932-A95D-C3F39CA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B90E-B856-40AF-845B-6317EE1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E3D0-8BDE-4EC6-A292-DCB4BF5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836-500A-4FDA-A4A8-5506745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429D-4186-46B0-A0C1-75FAF418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1817-BCB5-4995-B93A-03F28F1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AC54-45C8-463C-AEC2-81C8B1F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B9AA-81CD-4C02-897D-99ABB7C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DD58-87C6-43E0-871E-B23EF66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042C-2094-4DAE-A6CA-B043D5B4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9040-FA1D-46CD-93BC-37D7A872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2CB5-061C-42B1-A040-AF4477D1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E42C-CD38-4A56-8E48-68775BE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4CEB-3DD9-45D7-B1F3-674F699B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FF5-4BEA-49EA-BB4F-5E1B828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50C8-B678-48DB-8908-BCF82CC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F9F6-2202-4D30-ACED-F7A9BB80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272B-009D-4133-ADCB-E54B2F4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A1BF-CABA-445C-819A-8AE0F45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406E-F958-42D9-92B1-4FE863B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F768-A2C6-4D18-BE5D-82B497E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D1BF-4898-4B79-8D86-22339C4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6377-6ADE-4613-8A7E-F79C2BAC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BA3E-0A03-4887-85A6-596DC871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8BF-EBC3-4591-B896-8ACEA73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32E-B6A3-40AB-BA49-D8E319B5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636-FB2B-4692-A7E8-77D04AC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E5D-3D90-4A24-A45C-1D7C814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968-1EB9-41AF-A853-24CF36A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D004-098C-4FBD-9569-ECCB77A55B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11D-F815-4960-B0F7-40EFC29C7E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8C7-A1BD-42D2-96D8-05A70F12C4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90C-BBEF-4CE3-B7E5-56D8C9D0FA1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nekrasov_pic_02"/>
          <p:cNvPicPr/>
          <p:nvPr/>
        </p:nvPicPr>
        <p:blipFill>
          <a:blip r:embed="rId1"/>
          <a:stretch/>
        </p:blipFill>
        <p:spPr>
          <a:xfrm>
            <a:off x="928800" y="1500120"/>
            <a:ext cx="7858080" cy="3000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92880" cy="1890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ыполнила Дуркина Анжелика Степа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Студенка 4 кур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Филологического  факультета КГП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571840" y="56437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ыктывкар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  что способен человек ради любв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i?id=10950460&amp;tov=2"/>
          <p:cNvPicPr/>
          <p:nvPr/>
        </p:nvPicPr>
        <p:blipFill>
          <a:blip r:embed="rId1"/>
          <a:stretch/>
        </p:blipFill>
        <p:spPr>
          <a:xfrm>
            <a:off x="1357200" y="3286080"/>
            <a:ext cx="2286000" cy="320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Картинка 2 из 1019"/>
          <p:cNvPicPr/>
          <p:nvPr/>
        </p:nvPicPr>
        <p:blipFill>
          <a:blip r:embed="rId2"/>
          <a:stretch/>
        </p:blipFill>
        <p:spPr>
          <a:xfrm>
            <a:off x="4929120" y="3143160"/>
            <a:ext cx="207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чему Н.А. Некрасов обратился к теме о женах декабрист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то является главной героиней поэмы Н.А. Некрасова «Русские женщины»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чем повествуют части поэм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автор  относится к своим героя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ими чертами характера обладают княгини Трубецкая и Волконска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Н.А. Некрасов изобразил любовь женщины в своей поэме «Русские женщины»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Картинка 801 из 1039"/>
          <p:cNvPicPr/>
          <p:nvPr/>
        </p:nvPicPr>
        <p:blipFill>
          <a:blip r:embed="rId1"/>
          <a:stretch/>
        </p:blipFill>
        <p:spPr>
          <a:xfrm>
            <a:off x="4857840" y="1951200"/>
            <a:ext cx="32144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Мы будем изуч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ма как жанр произве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орическая основа поэмы Н.А. Некрасова «Русские женщин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личие духа русск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щин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поэме Н.А. Некрасова «Русские женщин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е некрасовские представления о дух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м подвиге во имя любви русских женщ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равн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сопоставл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нягинь Трубецкой и Волконс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85840" y="1928880"/>
          <a:ext cx="8329680" cy="4114800"/>
        </p:xfrm>
        <a:graphic>
          <a:graphicData uri="http://schemas.openxmlformats.org/drawingml/2006/table">
            <a:tbl>
              <a:tblPr/>
              <a:tblGrid>
                <a:gridCol w="1055520"/>
                <a:gridCol w="4338720"/>
                <a:gridCol w="939960"/>
                <a:gridCol w="1995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эма как жанр произве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торическая основа поэмы Н.А. Некрасова «Русские женщ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е духа русских по поэме Н.А. Некрасова «Русские женщ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некрасовские представления о духовом подвиге во имя любви русских женщ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 и сопоставления любви княгинь Трубецкой и Волконс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http://www.nekrasow.org.ru/lib/op/author/49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http://www.kostyor.ru/student/?n=244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http://lib.ru/LITRA/NEKRASOW/trubeckaya.txt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http://lit.1september.ru/2003/37/5.ht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4:08:02Z</dcterms:created>
  <dc:creator>Анжелика</dc:creator>
  <dc:description/>
  <dc:language>en-US</dc:language>
  <cp:lastModifiedBy>Анжелика</cp:lastModifiedBy>
  <dcterms:modified xsi:type="dcterms:W3CDTF">2010-04-27T19:02:33Z</dcterms:modified>
  <cp:revision>17</cp:revision>
  <dc:subject/>
  <dc:title>Величие духа русской женщины (По поэме Н.А. Некрасова «Русские»)</dc:title>
</cp:coreProperties>
</file>